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90B-6AE6-4D0C-8028-FD8D293FF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 Coast of Can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d Labrador Current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 Coast of Canada: warm North Pacific Current heats the air passing over it (milder coa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BC6-C044-494D-A7FB-B9EA18EA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ED2-4482-4615-91AD-130C4C4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25B-6E82-412F-8B2E-A60D5590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C28-351C-4AE7-94C2-7AA79365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014-86B8-4FBB-BA23-52F46D70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8B2-4980-49AA-AE2E-C847A26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C62-4EB0-4CF3-8167-3A9CC64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9F0-AB50-473C-9098-BD32DE50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82C-8BC5-4BA1-A801-0DAAC38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C39-BE2A-40D6-B0A8-6EABEAE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259-EF0B-435F-ACA3-E614B70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B08-0730-4799-B2ED-570A4EE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74DB-0770-4448-A36B-DA98F169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m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e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e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55736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mperatures continue to descend about -1 degree Celsius per 100 metres until you reach the tropopause (after that, things get wonk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is called the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Dry) Temperature Lapse Rat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93372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hen evaporation starts to occur, temperatures descend at only -0.6 degrees Celsius per 100 me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is called the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(Wet) Temperature Lapse Rat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938160"/>
            <a:ext cx="939636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319640" cy="364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413000"/>
            <a:ext cx="396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fers to differences in elevation on the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lief acts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barrier system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for the movement of air masses (wi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eing at a high elevation affects climate, but so does being at a low elevation with high elevations around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88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earness to Wa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4842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820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earness to Wa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797360"/>
            <a:ext cx="3692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ransparency (de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luidity (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557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4842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967280" cy="3552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1341360"/>
            <a:ext cx="324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ater is awesome.  It has many qualities that affect heat absorption and radi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600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486900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9640" y="4797360"/>
            <a:ext cx="482436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vaporation (phase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igher Hea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titu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5690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titu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459640" cy="3983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357720"/>
            <a:ext cx="53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amount of sunlight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never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t spreads over larger areas near the poles because of the curve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 larger area means a wider distribution of the limited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cean Curr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407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cean Curr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5257800" cy="2911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052640"/>
            <a:ext cx="338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mperature of ocean current affects temperature of air that passes ove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air warms or cools the land near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3933720"/>
            <a:ext cx="69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653080"/>
            <a:ext cx="849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ast Coast of Canada: cold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Labrador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est Coast of Canada: warm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North Pacif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" y="5141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28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316836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ir travels from areas of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high pressur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ow pressur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travel is what we call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se differences in pressure are caused by uneven heating of the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464000" cy="368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48360" y="5013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veyor belt of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095800" cy="54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96000" y="10000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nd named after the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direction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from which it flows i.e.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Westerlie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come from the 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93372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nds around the Equator are called “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trade wind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”, and are also named for the direction they come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842472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ome ter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Prevailing Wind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a well-established pattern of winds that blow from west to east (in Canada).  These move the air masses that affect our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Jet Stream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a current of fast-moving air high in the atmosphere (close to the tropopause, beyond which is little to no weather at all).  Moves 300-500 km/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Coriolis Effec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The deflection of moving objects (wind!) due to the Earth’s rotation.  Angles away from the Equ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9:45:53Z</dcterms:created>
  <dc:creator>Stefan</dc:creator>
  <dc:description/>
  <dc:language>en-US</dc:language>
  <cp:lastModifiedBy>C39660</cp:lastModifiedBy>
  <dcterms:modified xsi:type="dcterms:W3CDTF">2014-04-17T12:59:54Z</dcterms:modified>
  <cp:revision>73</cp:revision>
  <dc:subject/>
  <dc:title>Climate Factors</dc:title>
</cp:coreProperties>
</file>